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F76-F39F-4C4A-8B99-ECE05121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4C5-A707-4959-89A1-43DB06C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F3C-D65C-425E-8B27-C86ED0C8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228-9089-466B-AA8B-2AFFB5FC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B0A-B682-4115-A20E-D7FC3E10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0CA-8723-4EA7-B4D3-994C92C8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E7C-E88B-4F0F-A827-7AC7359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5F6-89EB-4975-B95C-F7144D10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DD7-940F-417A-9168-41A30AB2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E60-5D6F-4E3C-A6FD-6CBA1F17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AF7-718F-435A-B9E7-464F8210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B20-D32D-49F2-BC7E-EDB7CA7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62CC-ED5E-4943-BBC2-EFA1F87B99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Man He Kil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omas Har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224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ipper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a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lf-a-crown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43280" y="148428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rt for ‘wet the baby’s head’ meaning toast the health of a new 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ional dialect word for 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ot soldiers on the front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e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list, join the ar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ngs, stu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 a drink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-decimal coin to the value of two shillings and sixpence (12½ p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483920"/>
            <a:ext cx="3382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dramatic monolo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qua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ambic trim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iambic tetrameter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95280" y="1484280"/>
            <a:ext cx="4691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rst-person narra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stanza of four lines, often having alternate rhy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re with three beats of two syllables per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tre with four beats of two syllables per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37:33Z</dcterms:modified>
  <cp:revision>50</cp:revision>
  <dc:subject/>
  <dc:title>La Belle Dame Sans Merci</dc:title>
</cp:coreProperties>
</file>